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C680D-961C-4740-9F75-D6F466E54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8BF2F-D8E1-4757-98D9-80BFC56F3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E6322-56F7-4DF6-8017-2E8254D23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999FC-C1C6-4175-9213-98FB91B49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89CAB-5417-4A2A-8D80-C147E1706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DD7C4-9A1F-4952-9BFF-4691EF8CE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6A773-0526-4134-BC9D-1C24B33A0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D9C98-05F6-4979-B1C2-DD373F541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5C45A-DC71-41AE-B285-06D9F0327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020C9-CB2F-4E8F-B3EB-29A719B1F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1046A-1B1D-42B5-AE52-91D2BE8A0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1240B-78E3-43DF-8A00-FC798A057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B5A92-082A-4212-AC6F-17AA7EE668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partment of Education</a:t>
            </a:r>
            <a:endParaRPr b="0" lang="en-US" sz="4400" spc="-1" strike="noStrike">
              <a:solidFill>
                <a:srgbClr val="000000"/>
              </a:solidFill>
              <a:latin typeface="Arial"/>
            </a:endParaRPr>
          </a:p>
        </p:txBody>
      </p:sp>
      <p:pic>
        <p:nvPicPr>
          <p:cNvPr id="42" name="" descr=""/>
          <p:cNvPicPr/>
          <p:nvPr/>
        </p:nvPicPr>
        <p:blipFill>
          <a:blip r:embed="rId1"/>
          <a:stretch/>
        </p:blipFill>
        <p:spPr>
          <a:xfrm>
            <a:off x="1905120" y="2057400"/>
            <a:ext cx="5172120" cy="2585880"/>
          </a:xfrm>
          <a:prstGeom prst="rect">
            <a:avLst/>
          </a:prstGeom>
          <a:ln w="0">
            <a:noFill/>
          </a:ln>
        </p:spPr>
      </p:pic>
      <p:pic>
        <p:nvPicPr>
          <p:cNvPr id="43" name="" descr=""/>
          <p:cNvPicPr/>
          <p:nvPr/>
        </p:nvPicPr>
        <p:blipFill>
          <a:blip r:embed="rId2"/>
          <a:stretch/>
        </p:blipFill>
        <p:spPr>
          <a:xfrm>
            <a:off x="8839080" y="655308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30407"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 department of education is a department where the government provides academic help for children in schoo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ggest outcom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no child left behind” progra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 ensures that all kids at least pass high school and that not a single person fails school.</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 faced and how presidents have/will handle it</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 + (I)mprovment + (P)ost + (S)econdary + (E)ducation = FIPS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ident Nixon helped issued FIPSE in 1972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ident elect Obama will try to improve the no child left behind program.</a:t>
            </a:r>
            <a:endParaRPr b="0" lang="en-US" sz="1600" spc="-1" strike="noStrike">
              <a:solidFill>
                <a:srgbClr val="000000"/>
              </a:solidFill>
              <a:latin typeface="Arial"/>
            </a:endParaRPr>
          </a:p>
        </p:txBody>
      </p:sp>
      <p:sp>
        <p:nvSpPr>
          <p:cNvPr id="5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und for the Improvement of Postsecondary Education (FIPSE) is a unit of the Higher Education Programs located within the Office of Postsecondary Education, U.S. Department of Education. FIPSE's mandate is to "improve postsecondary educational opportunities" across a broad range of concerns. Although a small program, FIPSE has established a record of promoting meaningful and lasting solutions to various, often newly emerging, problems and of promoting the highest quality education for all learners. Through its primary vehicle, the Comprehensive Program grant competition, FIPSE seeks to support the implementation of innovative educational reform ideas, to evaluate how well they work, and to share the lessons learned with the larger education community. </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would I handle the issu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handle it by making a law that requires all schools in the us to provide as much academic support as possible!</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14:29:52Z</dcterms:created>
  <dc:creator>AnyStudent</dc:creator>
  <dc:description/>
  <dc:language>en-US</dc:language>
  <cp:lastModifiedBy>admin</cp:lastModifiedBy>
  <dcterms:modified xsi:type="dcterms:W3CDTF">2008-11-24T18:51:18Z</dcterms:modified>
  <cp:revision>3</cp:revision>
  <dc:subject/>
  <dc:title>Department of Education</dc:title>
</cp:coreProperties>
</file>